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37D4-678E-41E1-8066-416738FED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C919-4AFE-40FE-962C-FEC20577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99CC-58EC-476D-AB0C-667F1A4D1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A3B1-7360-4043-A144-864542E0C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8FFC-11BB-4E19-BE6D-75EAFA0A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909D-D564-4F3E-86CA-6FEAD8D3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85FA-EA20-4E1F-BD1A-B7050D7B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261C-4D0A-4B17-B3BD-5BA5F687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63C5-682D-4EE4-A2C3-3E3F8C95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4006-62A5-4308-8F54-598BA0C1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23A5-A894-48B2-A869-730F92DE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3932-9236-4168-812E-689896BD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7F60-C4AB-43BB-A399-D792F62048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55Z</dcterms:modified>
  <cp:revision>51</cp:revision>
  <dc:subject/>
  <dc:title>Hazards</dc:title>
</cp:coreProperties>
</file>